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7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13.png" ContentType="image/png"/>
  <Override PartName="/ppt/media/image11.png" ContentType="image/png"/>
  <Override PartName="/ppt/media/image30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6.jpeg" ContentType="image/jpeg"/>
  <Override PartName="/ppt/media/image18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3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E9EB-8CBC-4F49-BDD3-5B0AB1BC3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8D8C-4B09-4DCE-80E0-5F21F869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CEAB-8D35-42D8-9A8F-CF3AFC181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C767-1FD5-4B37-B12D-8F0CF0BDF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0C10-42FB-46C3-B969-98F8E49A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473F-16E2-4384-9112-BAF4E9853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C0AD-E308-4BD9-80E5-B0730029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7D90-A173-4772-B85F-167F6081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BAA1-3770-4B6D-8427-D96F73A9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940D-614B-437C-B69E-5C35C743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199B-C26C-416D-9068-F063EBDB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0AD3-E0EB-4F69-9EF3-8D13B8B6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E15B-191F-4950-9C81-271F070E3DCE}" type="datetime">
              <a:rPr b="0" lang="en-CA" sz="1200" spc="-1" strike="noStrike">
                <a:solidFill>
                  <a:srgbClr val="898989"/>
                </a:solidFill>
                <a:latin typeface="Calibri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C257-A288-4FDD-9DC3-327A8177BF81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newfoundations.com/GALLERY/Hirsch.html" TargetMode="Externa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898989"/>
                </a:solidFill>
                <a:latin typeface="Calibri"/>
              </a:rPr>
              <a:t>Group 3 &amp;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Rectangle 3" descr=""/>
          <p:cNvPicPr/>
          <p:nvPr/>
        </p:nvPicPr>
        <p:blipFill>
          <a:blip r:embed="rId1"/>
          <a:stretch/>
        </p:blipFill>
        <p:spPr>
          <a:xfrm>
            <a:off x="944640" y="2048040"/>
            <a:ext cx="7083360" cy="144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.D Hirs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ttp://www.newfoundations.com/GALLERY/Hirsch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incipal aim of schooling is to promote literacy as an enabling competence" (G, p. 137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 knowledge should be a goal of education because it "makes people competent regardless of race, class or ethnicity while also making people more competent in the tasks of life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Rectangle 3" descr=""/>
          <p:cNvPicPr/>
          <p:nvPr/>
        </p:nvPicPr>
        <p:blipFill>
          <a:blip r:embed="rId1"/>
          <a:stretch/>
        </p:blipFill>
        <p:spPr>
          <a:xfrm>
            <a:off x="1901880" y="285840"/>
            <a:ext cx="532764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re knowledge and skill a person has the more they can acqu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owledge is like money, the more money you have the more you can acqu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Rectangle 3" descr=""/>
          <p:cNvPicPr/>
          <p:nvPr/>
        </p:nvPicPr>
        <p:blipFill>
          <a:blip r:embed="rId1"/>
          <a:stretch/>
        </p:blipFill>
        <p:spPr>
          <a:xfrm>
            <a:off x="1073160" y="285840"/>
            <a:ext cx="7040520" cy="1098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brain.jpg"/>
          <p:cNvPicPr/>
          <p:nvPr/>
        </p:nvPicPr>
        <p:blipFill>
          <a:blip r:embed="rId2"/>
          <a:stretch/>
        </p:blipFill>
        <p:spPr>
          <a:xfrm>
            <a:off x="3200400" y="3733920"/>
            <a:ext cx="287028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all human communities are founded upon specific shared information, and the basic goal of education in a human community is acculturation - the transmission to children of the specific information shared by the adults of the group or polis" (G, pp. xv-xvi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Rectangle 3" descr=""/>
          <p:cNvPicPr/>
          <p:nvPr/>
        </p:nvPicPr>
        <p:blipFill>
          <a:blip r:embed="rId1"/>
          <a:stretch/>
        </p:blipFill>
        <p:spPr>
          <a:xfrm>
            <a:off x="549360" y="55440"/>
            <a:ext cx="8076960" cy="1103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teach.jpg"/>
          <p:cNvPicPr/>
          <p:nvPr/>
        </p:nvPicPr>
        <p:blipFill>
          <a:blip r:embed="rId2"/>
          <a:stretch/>
        </p:blipFill>
        <p:spPr>
          <a:xfrm>
            <a:off x="3048120" y="4572000"/>
            <a:ext cx="3454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Learning builds on learning" (F, p. 89). The more a person knows, believes Hirsch, the more a person can learn. He calls existing knowledge "mental Velcro", which allows for additional knowledge to become attached to it (J, pp. 70-72)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1295280" y="502920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newfoundations.com/GALLERY/Hirsch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Rectangle 4" descr=""/>
          <p:cNvPicPr/>
          <p:nvPr/>
        </p:nvPicPr>
        <p:blipFill>
          <a:blip r:embed="rId2"/>
          <a:stretch/>
        </p:blipFill>
        <p:spPr>
          <a:xfrm>
            <a:off x="1212840" y="208080"/>
            <a:ext cx="619452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the goal of meeting students' individual needs in the classroom has been greatly misused in American educational theory" (I, pp. 28-31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Rectangle 3" descr=""/>
          <p:cNvPicPr/>
          <p:nvPr/>
        </p:nvPicPr>
        <p:blipFill>
          <a:blip r:embed="rId1"/>
          <a:stretch/>
        </p:blipFill>
        <p:spPr>
          <a:xfrm>
            <a:off x="762120" y="208080"/>
            <a:ext cx="743724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rsch says that parents and teachers, and to a lesser degree administrators, are involved in this educational movement. He says that administrators tend to be resistant toward making such a radical change (I, pp. 28-31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Rectangle 3" descr=""/>
          <p:cNvPicPr/>
          <p:nvPr/>
        </p:nvPicPr>
        <p:blipFill>
          <a:blip r:embed="rId1"/>
          <a:stretch/>
        </p:blipFill>
        <p:spPr>
          <a:xfrm>
            <a:off x="1450800" y="360360"/>
            <a:ext cx="5785200" cy="1103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parents.jpg"/>
          <p:cNvPicPr/>
          <p:nvPr/>
        </p:nvPicPr>
        <p:blipFill>
          <a:blip r:embed="rId2"/>
          <a:stretch/>
        </p:blipFill>
        <p:spPr>
          <a:xfrm>
            <a:off x="5638680" y="2209680"/>
            <a:ext cx="31878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6840" y="609120"/>
            <a:ext cx="533412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Giving everybody more knowledge makes everybody more competent, and creates a more just society. Since knowledge is the great equalizer, the schools have a huge opportunity and responsibility to provide more equal life chances for all students, no matter where they come from" (A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brain.jpg"/>
          <p:cNvPicPr/>
          <p:nvPr/>
        </p:nvPicPr>
        <p:blipFill>
          <a:blip r:embed="rId1"/>
          <a:stretch/>
        </p:blipFill>
        <p:spPr>
          <a:xfrm>
            <a:off x="5943600" y="1981080"/>
            <a:ext cx="28828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rently, Hirsch argues that the ideas of the Progressive/Naturalist movements take precedence. However, he believes that Progressivism's consensus is distorted by the use of "scientific-sounding terms, (such as "developmentally appropriate")," and that the disputes of the mainstream scientific community are more accurate (F, p. 2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2438280" y="59342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 Hirsch, E.D. (1996). The schools we need and why we don't have them. New York, NY: Double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Rectangle 4" descr=""/>
          <p:cNvPicPr/>
          <p:nvPr/>
        </p:nvPicPr>
        <p:blipFill>
          <a:blip r:embed="rId1"/>
          <a:stretch/>
        </p:blipFill>
        <p:spPr>
          <a:xfrm>
            <a:off x="987480" y="133200"/>
            <a:ext cx="674856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Run Dow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ill and Ki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ful if used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ful if given the right opportunity to perform in the classro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ful if students are given the opportunity to see the outc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drill.jpg"/>
          <p:cNvPicPr/>
          <p:nvPr/>
        </p:nvPicPr>
        <p:blipFill>
          <a:blip r:embed="rId1"/>
          <a:stretch/>
        </p:blipFill>
        <p:spPr>
          <a:xfrm>
            <a:off x="2286000" y="4267080"/>
            <a:ext cx="434340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Rectangle 3" descr=""/>
          <p:cNvPicPr/>
          <p:nvPr/>
        </p:nvPicPr>
        <p:blipFill>
          <a:blip r:embed="rId1"/>
          <a:stretch/>
        </p:blipFill>
        <p:spPr>
          <a:xfrm>
            <a:off x="2279520" y="285840"/>
            <a:ext cx="5426280" cy="1098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839124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ill and Ki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gative if over u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gative if never referred to as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gative if never accompanied by direct instruction and feed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sad.jpg"/>
          <p:cNvPicPr/>
          <p:nvPr/>
        </p:nvPicPr>
        <p:blipFill>
          <a:blip r:embed="rId1"/>
          <a:stretch/>
        </p:blipFill>
        <p:spPr>
          <a:xfrm>
            <a:off x="2819520" y="4267080"/>
            <a:ext cx="34923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ivit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th problems (addition, subtrac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unking of vocabulary wo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ntal Mat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143000"/>
            <a:ext cx="51055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ill And Ki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nding a lot of time in class practicing for the 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king questions to ensure students are on task and understa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ching to the 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533520" y="502920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aspect of Drill and Kill is to teach to a standardized test. The positive side is that the students are on task and subject taught is relev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Rectangle 4" descr=""/>
          <p:cNvPicPr/>
          <p:nvPr/>
        </p:nvPicPr>
        <p:blipFill>
          <a:blip r:embed="rId1"/>
          <a:stretch/>
        </p:blipFill>
        <p:spPr>
          <a:xfrm>
            <a:off x="2719440" y="-208080"/>
            <a:ext cx="3760560" cy="1324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drill and kill.jpg"/>
          <p:cNvPicPr/>
          <p:nvPr/>
        </p:nvPicPr>
        <p:blipFill>
          <a:blip r:embed="rId2"/>
          <a:stretch/>
        </p:blipFill>
        <p:spPr>
          <a:xfrm>
            <a:off x="5486400" y="1600200"/>
            <a:ext cx="328932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0880" y="106668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 spent is directly related to the standardized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 are not working their way to the final product, simply given the final ne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ersonal understanding is not achieved, just an understan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Rectangle 3" descr=""/>
          <p:cNvPicPr/>
          <p:nvPr/>
        </p:nvPicPr>
        <p:blipFill>
          <a:blip r:embed="rId1"/>
          <a:stretch/>
        </p:blipFill>
        <p:spPr>
          <a:xfrm>
            <a:off x="2567160" y="-208080"/>
            <a:ext cx="4101840" cy="1324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test.jpg"/>
          <p:cNvPicPr/>
          <p:nvPr/>
        </p:nvPicPr>
        <p:blipFill>
          <a:blip r:embed="rId2"/>
          <a:stretch/>
        </p:blipFill>
        <p:spPr>
          <a:xfrm>
            <a:off x="3124080" y="4343400"/>
            <a:ext cx="327672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ttp://www.apa.org/education/k12/practice-acquisition.aspx#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Rectangle 3" descr=""/>
          <p:cNvPicPr/>
          <p:nvPr/>
        </p:nvPicPr>
        <p:blipFill>
          <a:blip r:embed="rId1"/>
          <a:stretch/>
        </p:blipFill>
        <p:spPr>
          <a:xfrm>
            <a:off x="743040" y="-171360"/>
            <a:ext cx="7651800" cy="1933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apa.jpg"/>
          <p:cNvPicPr/>
          <p:nvPr/>
        </p:nvPicPr>
        <p:blipFill>
          <a:blip r:embed="rId2"/>
          <a:stretch/>
        </p:blipFill>
        <p:spPr>
          <a:xfrm>
            <a:off x="1523880" y="3733920"/>
            <a:ext cx="608184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manently retain the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automat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ferable ski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Rectangle 3" descr=""/>
          <p:cNvPicPr/>
          <p:nvPr/>
        </p:nvPicPr>
        <p:blipFill>
          <a:blip r:embed="rId1"/>
          <a:stretch/>
        </p:blipFill>
        <p:spPr>
          <a:xfrm>
            <a:off x="1749600" y="208080"/>
            <a:ext cx="5333760" cy="1103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practice.jpg"/>
          <p:cNvPicPr/>
          <p:nvPr/>
        </p:nvPicPr>
        <p:blipFill>
          <a:blip r:embed="rId2"/>
          <a:stretch/>
        </p:blipFill>
        <p:spPr>
          <a:xfrm>
            <a:off x="5181480" y="2438280"/>
            <a:ext cx="350532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Rehearsal"/>
          <p:cNvPicPr/>
          <p:nvPr/>
        </p:nvPicPr>
        <p:blipFill>
          <a:blip r:embed="rId1"/>
          <a:stretch/>
        </p:blipFill>
        <p:spPr>
          <a:xfrm>
            <a:off x="27000" y="533520"/>
            <a:ext cx="91994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chers should point out when a practice has improved the ski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actice with prior knowledge in mi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e feedback to accompany the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Rectangle 3" descr=""/>
          <p:cNvPicPr/>
          <p:nvPr/>
        </p:nvPicPr>
        <p:blipFill>
          <a:blip r:embed="rId1"/>
          <a:stretch/>
        </p:blipFill>
        <p:spPr>
          <a:xfrm>
            <a:off x="2962440" y="285840"/>
            <a:ext cx="3249360" cy="1098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feed.jpg"/>
          <p:cNvPicPr/>
          <p:nvPr/>
        </p:nvPicPr>
        <p:blipFill>
          <a:blip r:embed="rId2"/>
          <a:stretch/>
        </p:blipFill>
        <p:spPr>
          <a:xfrm>
            <a:off x="3124080" y="3886200"/>
            <a:ext cx="29210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361960" y="167616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nsive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s and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unking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Rectangle 3" descr=""/>
          <p:cNvPicPr/>
          <p:nvPr/>
        </p:nvPicPr>
        <p:blipFill>
          <a:blip r:embed="rId1"/>
          <a:stretch/>
        </p:blipFill>
        <p:spPr>
          <a:xfrm>
            <a:off x="1670040" y="285840"/>
            <a:ext cx="5632560" cy="1098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test.jpg"/>
          <p:cNvPicPr/>
          <p:nvPr/>
        </p:nvPicPr>
        <p:blipFill>
          <a:blip r:embed="rId2"/>
          <a:stretch/>
        </p:blipFill>
        <p:spPr>
          <a:xfrm>
            <a:off x="2362320" y="3733920"/>
            <a:ext cx="426708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1T23:49:53Z</dcterms:created>
  <dc:creator>user</dc:creator>
  <dc:description/>
  <dc:language>en-US</dc:language>
  <cp:lastModifiedBy>Mike</cp:lastModifiedBy>
  <dcterms:modified xsi:type="dcterms:W3CDTF">2012-07-05T21:08:55Z</dcterms:modified>
  <cp:revision>12</cp:revision>
  <dc:subject/>
  <dc:title>Slide 1</dc:title>
</cp:coreProperties>
</file>